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0.png" ContentType="image/png"/>
  <Override PartName="/ppt/media/image28.png" ContentType="image/png"/>
  <Override PartName="/ppt/media/image40.jpeg" ContentType="image/jpeg"/>
  <Override PartName="/ppt/media/image44.jpeg" ContentType="image/jpeg"/>
  <Override PartName="/ppt/media/image43.png" ContentType="image/png"/>
  <Override PartName="/ppt/media/image7.png" ContentType="image/png"/>
  <Override PartName="/ppt/media/image37.png" ContentType="image/png"/>
  <Override PartName="/ppt/media/image48.jpeg" ContentType="image/jpeg"/>
  <Override PartName="/ppt/media/image38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45.jpeg" ContentType="image/jpeg"/>
  <Override PartName="/ppt/media/image46.jpeg" ContentType="image/jpeg"/>
  <Override PartName="/ppt/media/image41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16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17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 type="sldNum" idx="18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D632-3751-46B5-9BE5-03BDC8C87DB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www.fvap.gov/" TargetMode="External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1FC0-F228-4121-9BFD-9A386D78C5A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39D6-2BCA-420E-BEFC-BA8EA8B8225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C323-3D1C-4412-B755-E67E4A997A0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0FAD-DFBD-4196-AD11-3109A257B51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0815-CC10-49F9-B59E-218E9B92BD6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C371-0DEB-4CEB-9E9D-53FDAD26814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2E71-CF80-4FC6-B52D-6B2BD9F1558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B83F-2956-4073-B58F-CD94C20DF6C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1562-F39D-4675-A408-CA2EC0F3159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et may still be done at the UVAO leve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C239-83ED-4E6F-AA6C-3079B858BA1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ADAD-7071-488B-B94E-8CB8D0F129A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his training module serves as a supplement to the existing Military VAO training available through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www.fvap.gov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DB05-ED3D-4D87-B1F8-EC2602693D5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6231-33A3-4142-B567-5F37F88F9EA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DCB0-3268-4E5E-848A-AB2903D3801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0F5D-E5CF-4924-9DB4-BD82076A977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9319-9148-4C34-BCE5-247495A80FE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1BF0-C7EB-406B-86AB-24CA6715DC6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s chang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DBAA-8A53-4D95-9A9D-F742BDC3EBC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 found on EAC.gov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7297-9F83-49A6-AA9D-681AE18C50C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9A77-FFA9-4CF1-B98C-C5D9C690A94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D131-3F94-4EFF-8766-89936D9FD38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st of the information in the Military VAO training applies directly to the installation voter assistance office personnel, with two excep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porting structure: Office personnel report directly to their installation commander with the SVAO available for direction and sup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uties: Office personnel are only responsible for assisting those that come to the office for help, not proactively seeking out potential applic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AB8B-E16E-48B6-8EB8-BBC026ED06D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6382-FEDC-4A53-B737-91C9D03E2E0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1156-81ED-4C9B-AAF9-2502253BA23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3CE4-157D-4AE4-87CE-575C5C0E99C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C0A6-F7B6-4871-9CCA-A0A1A86F265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8D93-5F53-4207-BCC1-1B2BDDB9698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36AC-CE6A-4793-9BB4-440E41387DB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982B-EBB8-4481-B4FD-9884090ADA4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C809-ADFA-492F-A1CD-9FC900042B5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A55B-85E8-4E85-8A0F-BDDCFFBB658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4146-AFE2-4A73-AE66-BE17A362424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2B03-E8DD-40F8-BD9D-5605B61A54D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48F8-6760-4E7A-B89A-86ACAA7DBE2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irst page of the output provided by the online assistant gives you a postage-paid template that can be printed directly onto a No.10 business envelope for easy mailing. The form DOES NEED TO BE PRINTED and sign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3332-6B1A-4E81-AEAB-54F79B5C7C7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CBB7-3FC7-4559-A045-72B204A85B0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9C12-FC25-4067-ACB8-F4AD731F92F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A1AE-714D-42E9-A15E-16EC01AEB5F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903C-BBC6-4934-ABD7-16D27916FF2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D1B4-5D49-47E5-A091-A2C073B0444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3E14-3F2D-4BF0-8A5C-30C618D1AB0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8B67-9B7A-497C-8C49-DCAD755A893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76B6-6FE4-422A-AE48-B6E1B566650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the additional ter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3264-2DCA-404B-843A-5A58014FEDB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71A2-7B4B-4A4E-8F94-677C8DF31FA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D142-4E64-4A08-9BDA-5D24843895F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AADD-A69F-4C7D-9982-98D78674987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D4CF-4B3A-4164-B1B3-31D4D3DB9B9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27B2-69BB-44DB-9CB4-86C4370F0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B74E-2B14-4DB6-8D6F-89C32948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4FEC-04BB-40AA-B3B0-EE8CDBCC0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DBD1-4981-4F12-B25A-B7D5E5345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9FD2-B194-4353-B295-E8818B42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3426-B64B-4F19-A8AD-79EBC8924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3120-E6DE-4C57-8D4B-E2425514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4DBFF-6D5A-429E-A88F-EE5120ED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EDAF-28EC-4EAC-B2ED-EA05CC64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B6CD-4865-4CA6-8B8C-860B06A0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8523-5EEE-4E6F-9B2C-7C894410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8A6C-5430-4BC0-967A-E4653A5A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0187-487D-49B9-AADD-F65DFFEB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2DCF-436E-4A91-B1DF-04FA4256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1A5A-982A-43AB-A9FF-476A4D07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5886-D0F1-4587-A46F-4FCFDCEB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E39E-9591-4FA1-9709-73E7D435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B415-7054-4C5A-8CF4-120A9501B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1A824-1416-44E0-9913-C3E7DD82E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1CC74-F5B4-4261-B1F3-D7A66EC8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C8669-04D8-4F83-A56F-97DEB962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8EDD-EE41-41D0-8ADA-AAAF0984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D993D-6EAB-45E3-8BCB-3CA225B3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FA8D9-9047-4DA5-8D08-05FC4959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E04B8-A5D0-4A30-808F-05D0CF55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A70F5-0B55-488C-9FC5-6C98C329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AE727-D194-4D5A-B8DF-F202AE1A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E0A75-DAC5-407C-A529-4F573F37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42536-45DD-4846-9F4C-0B3407B6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C350A-9B04-49B0-B18D-AE0A67A20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0FF5E-CAE6-47BC-B59B-7B4BE24A5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BFAEA-61B1-452C-A0EC-DC20BF85D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F874-08B1-492C-8B0B-255ED1FF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7DCEE-FA1A-4FDA-AA3A-9195FF82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25B09-5EB6-46F2-8E35-320049FC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403CE-44D2-49CF-8EEB-BAE4D916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A0D44-A770-493C-8E9D-7DDB8FCA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218AF-57A0-4FFA-82B8-9B4E1CB0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6C57F-13C7-47F3-9AAE-96C773A3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AE9BC-BEA7-4B20-8C20-3B326BA2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BD746-DB15-4D56-AECF-01099552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60BD3-CEDD-4883-9387-58293C48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90A63-9E45-4546-95D6-8D83ABDFF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71F7-7DF9-454F-BA93-763D4ED0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7C6FA-8CCF-4536-8CF7-E7586D8CA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7EE9F-1E02-4868-B585-1D0F9643B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E66CD-D06F-4879-B3BD-F00A841F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FE03B-45E5-4C06-B547-3B582375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3D0E8-2CDD-44E4-BDDF-929677BA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79158-C87E-4146-A308-A66E382B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947F0-B65B-4732-8BDC-C83E9096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85444-60F4-4B9A-9C3B-1341DD68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408FD-5CE6-41DD-AB47-3ED36D91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B3555-AD3C-42D7-BD68-E6246E39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F4D1-2D29-4AD3-87FF-127B15DB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F6366-7601-49E3-9DAE-B39CD4CC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3C35C-DC94-4C31-9B60-CA94EBBF8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36F67-0521-4C34-A293-4C1705B23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5443-CE81-47A8-AE5A-83E918F3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7229-4B9E-4745-BBD2-69D8F8B4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F380-BD46-430E-BF56-1EF0AA2A67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74AB-0DFA-4885-BFD6-0A923FE81A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5" descr="FVAP.gov LOGO_color opt_CHOSEN.png"/>
          <p:cNvPicPr/>
          <p:nvPr/>
        </p:nvPicPr>
        <p:blipFill>
          <a:blip r:embed="rId2"/>
          <a:stretch/>
        </p:blipFill>
        <p:spPr>
          <a:xfrm>
            <a:off x="228600" y="378000"/>
            <a:ext cx="1679400" cy="5364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7"/>
          <p:cNvSpPr/>
          <p:nvPr/>
        </p:nvSpPr>
        <p:spPr>
          <a:xfrm>
            <a:off x="228600" y="990720"/>
            <a:ext cx="8686800" cy="46080"/>
          </a:xfrm>
          <a:prstGeom prst="rect">
            <a:avLst/>
          </a:prstGeom>
          <a:solidFill>
            <a:srgbClr val="d31e46"/>
          </a:solidFill>
          <a:ln w="25560">
            <a:solidFill>
              <a:srgbClr val="d31e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228600" y="6248520"/>
            <a:ext cx="8686800" cy="311040"/>
          </a:xfrm>
          <a:prstGeom prst="rect">
            <a:avLst/>
          </a:prstGeom>
          <a:solidFill>
            <a:srgbClr val="0d4d8c"/>
          </a:solidFill>
          <a:ln w="25560">
            <a:solidFill>
              <a:srgbClr val="0d4d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FVAP.gov LOGO_color opt_CHOSEN.png"/>
          <p:cNvPicPr/>
          <p:nvPr/>
        </p:nvPicPr>
        <p:blipFill>
          <a:blip r:embed="rId2"/>
          <a:stretch/>
        </p:blipFill>
        <p:spPr>
          <a:xfrm>
            <a:off x="228600" y="378000"/>
            <a:ext cx="1679400" cy="5364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228600" y="990720"/>
            <a:ext cx="8686800" cy="46080"/>
          </a:xfrm>
          <a:prstGeom prst="rect">
            <a:avLst/>
          </a:prstGeom>
          <a:solidFill>
            <a:srgbClr val="d31e46"/>
          </a:solidFill>
          <a:ln w="25560">
            <a:solidFill>
              <a:srgbClr val="d31e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228600" y="6248520"/>
            <a:ext cx="8686800" cy="311040"/>
          </a:xfrm>
          <a:prstGeom prst="rect">
            <a:avLst/>
          </a:prstGeom>
          <a:solidFill>
            <a:srgbClr val="0d4d8c"/>
          </a:solidFill>
          <a:ln w="25560">
            <a:solidFill>
              <a:srgbClr val="0d4d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bottmfolio.tif"/>
          <p:cNvPicPr/>
          <p:nvPr/>
        </p:nvPicPr>
        <p:blipFill>
          <a:blip r:embed="rId3"/>
          <a:stretch/>
        </p:blipFill>
        <p:spPr>
          <a:xfrm>
            <a:off x="7848720" y="5870520"/>
            <a:ext cx="103032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top1.tif"/>
          <p:cNvPicPr/>
          <p:nvPr/>
        </p:nvPicPr>
        <p:blipFill>
          <a:blip r:embed="rId4"/>
          <a:srcRect l="3000" t="13398" r="7051" b="0"/>
          <a:stretch/>
        </p:blipFill>
        <p:spPr>
          <a:xfrm>
            <a:off x="0" y="0"/>
            <a:ext cx="9144000" cy="1969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FVAP.gov LOGO_color opt_CHOSEN.png"/>
          <p:cNvPicPr/>
          <p:nvPr/>
        </p:nvPicPr>
        <p:blipFill>
          <a:blip r:embed="rId5"/>
          <a:stretch/>
        </p:blipFill>
        <p:spPr>
          <a:xfrm>
            <a:off x="1371600" y="682560"/>
            <a:ext cx="1679400" cy="536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dod Logo.gif"/>
          <p:cNvPicPr/>
          <p:nvPr/>
        </p:nvPicPr>
        <p:blipFill>
          <a:blip r:embed="rId6"/>
          <a:stretch/>
        </p:blipFill>
        <p:spPr>
          <a:xfrm>
            <a:off x="609480" y="6094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3"/>
          <p:cNvSpPr/>
          <p:nvPr/>
        </p:nvSpPr>
        <p:spPr>
          <a:xfrm>
            <a:off x="8229600" y="6172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6652-8015-45DB-8DBD-3222A62808D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FVAP.gov LOGO_color opt_CHOSEN.png"/>
          <p:cNvPicPr/>
          <p:nvPr/>
        </p:nvPicPr>
        <p:blipFill>
          <a:blip r:embed="rId2"/>
          <a:stretch/>
        </p:blipFill>
        <p:spPr>
          <a:xfrm>
            <a:off x="228600" y="378000"/>
            <a:ext cx="1679400" cy="5364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7"/>
          <p:cNvSpPr/>
          <p:nvPr/>
        </p:nvSpPr>
        <p:spPr>
          <a:xfrm>
            <a:off x="228600" y="990720"/>
            <a:ext cx="8686800" cy="46080"/>
          </a:xfrm>
          <a:prstGeom prst="rect">
            <a:avLst/>
          </a:prstGeom>
          <a:solidFill>
            <a:srgbClr val="d31e46"/>
          </a:solidFill>
          <a:ln w="25560">
            <a:solidFill>
              <a:srgbClr val="d31e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228600" y="6248520"/>
            <a:ext cx="8686800" cy="311040"/>
          </a:xfrm>
          <a:prstGeom prst="rect">
            <a:avLst/>
          </a:prstGeom>
          <a:solidFill>
            <a:srgbClr val="0d4d8c"/>
          </a:solidFill>
          <a:ln w="25560">
            <a:solidFill>
              <a:srgbClr val="0d4d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26"/>
          <p:cNvSpPr/>
          <p:nvPr/>
        </p:nvSpPr>
        <p:spPr>
          <a:xfrm>
            <a:off x="8534520" y="6324480"/>
            <a:ext cx="366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0033-B51D-4CC2-818F-5A36799EA529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04A2-BFEF-4B4F-BF1C-A26917EBF6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C500-E14F-408A-82B7-64B8730BD3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FVAP.gov LOGO_color opt_CHOSEN.png"/>
          <p:cNvPicPr/>
          <p:nvPr/>
        </p:nvPicPr>
        <p:blipFill>
          <a:blip r:embed="rId2"/>
          <a:stretch/>
        </p:blipFill>
        <p:spPr>
          <a:xfrm>
            <a:off x="228600" y="378000"/>
            <a:ext cx="1679400" cy="5364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"/>
          <p:cNvSpPr/>
          <p:nvPr/>
        </p:nvSpPr>
        <p:spPr>
          <a:xfrm>
            <a:off x="228600" y="990720"/>
            <a:ext cx="8686800" cy="46080"/>
          </a:xfrm>
          <a:prstGeom prst="rect">
            <a:avLst/>
          </a:prstGeom>
          <a:solidFill>
            <a:srgbClr val="d31e46"/>
          </a:solidFill>
          <a:ln w="25560">
            <a:solidFill>
              <a:srgbClr val="d31e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228600" y="6248520"/>
            <a:ext cx="8686800" cy="311040"/>
          </a:xfrm>
          <a:prstGeom prst="rect">
            <a:avLst/>
          </a:prstGeom>
          <a:solidFill>
            <a:srgbClr val="0d4d8c"/>
          </a:solidFill>
          <a:ln w="25560">
            <a:solidFill>
              <a:srgbClr val="0d4d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2A40-5F30-4470-8EA5-5D5737523E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FVAP.gov LOGO_color opt_CHOSEN.png"/>
          <p:cNvPicPr/>
          <p:nvPr/>
        </p:nvPicPr>
        <p:blipFill>
          <a:blip r:embed="rId2"/>
          <a:stretch/>
        </p:blipFill>
        <p:spPr>
          <a:xfrm>
            <a:off x="228600" y="378000"/>
            <a:ext cx="1679400" cy="5364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7"/>
          <p:cNvSpPr/>
          <p:nvPr/>
        </p:nvSpPr>
        <p:spPr>
          <a:xfrm>
            <a:off x="228600" y="990720"/>
            <a:ext cx="8686800" cy="46080"/>
          </a:xfrm>
          <a:prstGeom prst="rect">
            <a:avLst/>
          </a:prstGeom>
          <a:solidFill>
            <a:srgbClr val="d31e46"/>
          </a:solidFill>
          <a:ln w="25560">
            <a:solidFill>
              <a:srgbClr val="d31e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228600" y="6248520"/>
            <a:ext cx="8686800" cy="311040"/>
          </a:xfrm>
          <a:prstGeom prst="rect">
            <a:avLst/>
          </a:prstGeom>
          <a:solidFill>
            <a:srgbClr val="0d4d8c"/>
          </a:solidFill>
          <a:ln w="25560">
            <a:solidFill>
              <a:srgbClr val="0d4d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D23E-3BE6-4A3E-B1C5-F484E832F7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" descr="FVAP.gov LOGO_color opt_CHOSEN.png"/>
          <p:cNvPicPr/>
          <p:nvPr/>
        </p:nvPicPr>
        <p:blipFill>
          <a:blip r:embed="rId2"/>
          <a:stretch/>
        </p:blipFill>
        <p:spPr>
          <a:xfrm>
            <a:off x="228600" y="378000"/>
            <a:ext cx="1679400" cy="53640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7"/>
          <p:cNvSpPr/>
          <p:nvPr/>
        </p:nvSpPr>
        <p:spPr>
          <a:xfrm>
            <a:off x="228600" y="990720"/>
            <a:ext cx="8686800" cy="46080"/>
          </a:xfrm>
          <a:prstGeom prst="rect">
            <a:avLst/>
          </a:prstGeom>
          <a:solidFill>
            <a:srgbClr val="d31e46"/>
          </a:solidFill>
          <a:ln w="25560">
            <a:solidFill>
              <a:srgbClr val="d31e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228600" y="6248520"/>
            <a:ext cx="8686800" cy="311040"/>
          </a:xfrm>
          <a:prstGeom prst="rect">
            <a:avLst/>
          </a:prstGeom>
          <a:solidFill>
            <a:srgbClr val="0d4d8c"/>
          </a:solidFill>
          <a:ln w="25560">
            <a:solidFill>
              <a:srgbClr val="0d4d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B3B7-530A-42C4-9761-5342E4CE4C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5" descr="FVAP.gov LOGO_color opt_CHOSEN.png"/>
          <p:cNvPicPr/>
          <p:nvPr/>
        </p:nvPicPr>
        <p:blipFill>
          <a:blip r:embed="rId2"/>
          <a:stretch/>
        </p:blipFill>
        <p:spPr>
          <a:xfrm>
            <a:off x="228600" y="378000"/>
            <a:ext cx="1679400" cy="53640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7"/>
          <p:cNvSpPr/>
          <p:nvPr/>
        </p:nvSpPr>
        <p:spPr>
          <a:xfrm>
            <a:off x="228600" y="990720"/>
            <a:ext cx="8686800" cy="46080"/>
          </a:xfrm>
          <a:prstGeom prst="rect">
            <a:avLst/>
          </a:prstGeom>
          <a:solidFill>
            <a:srgbClr val="d31e46"/>
          </a:solidFill>
          <a:ln w="25560">
            <a:solidFill>
              <a:srgbClr val="d31e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228600" y="6248520"/>
            <a:ext cx="8686800" cy="311040"/>
          </a:xfrm>
          <a:prstGeom prst="rect">
            <a:avLst/>
          </a:prstGeom>
          <a:solidFill>
            <a:srgbClr val="0d4d8c"/>
          </a:solidFill>
          <a:ln w="25560">
            <a:solidFill>
              <a:srgbClr val="0d4d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2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3925-1E22-4D4F-97D8-6759D179F32F}" type="slidenum">
              <a:rPr b="0" lang="en-US" sz="10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228600" y="990720"/>
            <a:ext cx="8686800" cy="46080"/>
          </a:xfrm>
          <a:prstGeom prst="rect">
            <a:avLst/>
          </a:prstGeom>
          <a:solidFill>
            <a:srgbClr val="d31e46"/>
          </a:solidFill>
          <a:ln w="25560">
            <a:solidFill>
              <a:srgbClr val="d31e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1"/>
          <p:cNvSpPr/>
          <p:nvPr/>
        </p:nvSpPr>
        <p:spPr>
          <a:xfrm>
            <a:off x="228600" y="6248520"/>
            <a:ext cx="8686800" cy="311040"/>
          </a:xfrm>
          <a:prstGeom prst="rect">
            <a:avLst/>
          </a:prstGeom>
          <a:solidFill>
            <a:srgbClr val="0d4d8c"/>
          </a:solidFill>
          <a:ln w="25560">
            <a:solidFill>
              <a:srgbClr val="0d4d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soswy.state.wy.us/Forms/Elections/General/vrapp.pdf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fvap.gov/" TargetMode="External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7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www.fvap.gov/" TargetMode="External"/><Relationship Id="rId2" Type="http://schemas.openxmlformats.org/officeDocument/2006/relationships/hyperlink" Target="http://www.fvap.gov/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Rectangle 5"/>
          <p:cNvGrpSpPr/>
          <p:nvPr/>
        </p:nvGrpSpPr>
        <p:grpSpPr>
          <a:xfrm>
            <a:off x="1017720" y="1859040"/>
            <a:ext cx="7576920" cy="2395440"/>
            <a:chOff x="1017720" y="1859040"/>
            <a:chExt cx="7576920" cy="2395440"/>
          </a:xfrm>
        </p:grpSpPr>
        <p:pic>
          <p:nvPicPr>
            <p:cNvPr id="319" name="Rectangle 5" descr=""/>
            <p:cNvPicPr/>
            <p:nvPr/>
          </p:nvPicPr>
          <p:blipFill>
            <a:blip r:embed="rId1"/>
            <a:stretch/>
          </p:blipFill>
          <p:spPr>
            <a:xfrm>
              <a:off x="1017720" y="1859040"/>
              <a:ext cx="7576920" cy="23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1066680" y="1905120"/>
              <a:ext cx="716292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762120" y="413388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Installation Voter Assistance Office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Box 6"/>
          <p:cNvSpPr/>
          <p:nvPr/>
        </p:nvSpPr>
        <p:spPr>
          <a:xfrm>
            <a:off x="1378800" y="2133720"/>
            <a:ext cx="657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eral Voting Assistanc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VA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artment of Def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D Issu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85800" y="1494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DI 1000.04 provides specific guidance on how the UOCAVA and NVRA will be implemented by the Servic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676520" y="2590920"/>
            <a:ext cx="5715000" cy="2307960"/>
          </a:xfrm>
          <a:prstGeom prst="rect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This has two main im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  <a:ea typeface="Arial"/>
              </a:rPr>
              <a:t>The set-up of the off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  <a:ea typeface="Arial"/>
              </a:rPr>
              <a:t>The responsibilities of the off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Rectangle 3"/>
          <p:cNvGrpSpPr/>
          <p:nvPr/>
        </p:nvGrpSpPr>
        <p:grpSpPr>
          <a:xfrm>
            <a:off x="1017720" y="2389320"/>
            <a:ext cx="7576920" cy="2322360"/>
            <a:chOff x="1017720" y="2389320"/>
            <a:chExt cx="7576920" cy="2322360"/>
          </a:xfrm>
        </p:grpSpPr>
        <p:pic>
          <p:nvPicPr>
            <p:cNvPr id="345" name="Rectangle 3" descr=""/>
            <p:cNvPicPr/>
            <p:nvPr/>
          </p:nvPicPr>
          <p:blipFill>
            <a:blip r:embed="rId1"/>
            <a:stretch/>
          </p:blipFill>
          <p:spPr>
            <a:xfrm>
              <a:off x="1017720" y="2389320"/>
              <a:ext cx="7576920" cy="23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1066680" y="2438280"/>
              <a:ext cx="716292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quirements: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tting up the Offic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6668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t-up: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8" name="Diagram 5" descr=""/>
          <p:cNvPicPr/>
          <p:nvPr/>
        </p:nvPicPr>
        <p:blipFill>
          <a:blip r:embed="rId1"/>
          <a:stretch/>
        </p:blipFill>
        <p:spPr>
          <a:xfrm>
            <a:off x="237960" y="1401840"/>
            <a:ext cx="873468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819160" y="15192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t-up: New</a:t>
            </a:r>
            <a:r>
              <a:rPr b="0" lang="en-US" sz="4400" spc="-1" strike="noStrike">
                <a:solidFill>
                  <a:srgbClr val="9bbb59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g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0" name="Diagram 5" descr=""/>
          <p:cNvPicPr/>
          <p:nvPr/>
        </p:nvPicPr>
        <p:blipFill>
          <a:blip r:embed="rId1"/>
          <a:stretch/>
        </p:blipFill>
        <p:spPr>
          <a:xfrm>
            <a:off x="96840" y="1407960"/>
            <a:ext cx="887580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819160" y="15192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t-up: New</a:t>
            </a:r>
            <a:r>
              <a:rPr b="0" lang="en-US" sz="4400" spc="-1" strike="noStrike">
                <a:solidFill>
                  <a:srgbClr val="9bbb59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g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" name="Diagram 5" descr=""/>
          <p:cNvPicPr/>
          <p:nvPr/>
        </p:nvPicPr>
        <p:blipFill>
          <a:blip r:embed="rId1"/>
          <a:stretch/>
        </p:blipFill>
        <p:spPr>
          <a:xfrm>
            <a:off x="122400" y="1481040"/>
            <a:ext cx="885024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6668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t-up: L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Diagram 5" descr=""/>
          <p:cNvPicPr/>
          <p:nvPr/>
        </p:nvPicPr>
        <p:blipFill>
          <a:blip r:embed="rId1"/>
          <a:stretch/>
        </p:blipFill>
        <p:spPr>
          <a:xfrm>
            <a:off x="128520" y="1401840"/>
            <a:ext cx="884412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6668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t-up: Awaren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Diagram 5" descr=""/>
          <p:cNvPicPr/>
          <p:nvPr/>
        </p:nvPicPr>
        <p:blipFill>
          <a:blip r:embed="rId1"/>
          <a:stretch/>
        </p:blipFill>
        <p:spPr>
          <a:xfrm>
            <a:off x="122400" y="1407960"/>
            <a:ext cx="885024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133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t-up: Im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Diagram 6" descr=""/>
          <p:cNvPicPr/>
          <p:nvPr/>
        </p:nvPicPr>
        <p:blipFill>
          <a:blip r:embed="rId1"/>
          <a:stretch/>
        </p:blipFill>
        <p:spPr>
          <a:xfrm>
            <a:off x="669960" y="1809720"/>
            <a:ext cx="772488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590920" y="1519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Responsibilities: Processing Activitie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Diagram 5" descr=""/>
          <p:cNvPicPr/>
          <p:nvPr/>
        </p:nvPicPr>
        <p:blipFill>
          <a:blip r:embed="rId1"/>
          <a:stretch/>
        </p:blipFill>
        <p:spPr>
          <a:xfrm>
            <a:off x="109440" y="1474920"/>
            <a:ext cx="8863200" cy="51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6668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ponsibilities: Written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3" name="Diagram 5" descr=""/>
          <p:cNvPicPr/>
          <p:nvPr/>
        </p:nvPicPr>
        <p:blipFill>
          <a:blip r:embed="rId1"/>
          <a:stretch/>
        </p:blipFill>
        <p:spPr>
          <a:xfrm>
            <a:off x="195120" y="1481040"/>
            <a:ext cx="888228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837720" y="2437920"/>
            <a:ext cx="7696440" cy="20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-6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lcome to the 201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nstallation Voter Assistance Office Training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his training provides information to help you establish and execute the required dut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838080" y="2209680"/>
            <a:ext cx="7696440" cy="2210040"/>
          </a:xfrm>
          <a:prstGeom prst="rect">
            <a:avLst/>
          </a:prstGeom>
          <a:noFill/>
          <a:ln w="25560">
            <a:solidFill>
              <a:srgbClr val="0d4d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8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ponsibilities: Direct Assis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Diagram 5" descr=""/>
          <p:cNvPicPr/>
          <p:nvPr/>
        </p:nvPicPr>
        <p:blipFill>
          <a:blip r:embed="rId1"/>
          <a:stretch/>
        </p:blipFill>
        <p:spPr>
          <a:xfrm>
            <a:off x="109440" y="1401840"/>
            <a:ext cx="886932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6668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ponsibilities: Mail 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Diagram 5" descr=""/>
          <p:cNvPicPr/>
          <p:nvPr/>
        </p:nvPicPr>
        <p:blipFill>
          <a:blip r:embed="rId1"/>
          <a:stretch/>
        </p:blipFill>
        <p:spPr>
          <a:xfrm>
            <a:off x="49320" y="1401840"/>
            <a:ext cx="88866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6668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ponsibilities: Monthly Rec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Diagram 5" descr=""/>
          <p:cNvPicPr/>
          <p:nvPr/>
        </p:nvPicPr>
        <p:blipFill>
          <a:blip r:embed="rId1"/>
          <a:stretch/>
        </p:blipFill>
        <p:spPr>
          <a:xfrm>
            <a:off x="103320" y="1407960"/>
            <a:ext cx="887544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819160" y="15192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Responsibilities: Additional Item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Group 18" descr=""/>
          <p:cNvPicPr/>
          <p:nvPr/>
        </p:nvPicPr>
        <p:blipFill>
          <a:blip r:embed="rId1"/>
          <a:stretch/>
        </p:blipFill>
        <p:spPr>
          <a:xfrm>
            <a:off x="201600" y="1914480"/>
            <a:ext cx="1554120" cy="3193920"/>
          </a:xfrm>
          <a:prstGeom prst="rect">
            <a:avLst/>
          </a:prstGeom>
          <a:ln w="0">
            <a:noFill/>
          </a:ln>
        </p:spPr>
      </p:pic>
      <p:pic>
        <p:nvPicPr>
          <p:cNvPr id="372" name="Group 19" descr=""/>
          <p:cNvPicPr/>
          <p:nvPr/>
        </p:nvPicPr>
        <p:blipFill>
          <a:blip r:embed="rId2"/>
          <a:stretch/>
        </p:blipFill>
        <p:spPr>
          <a:xfrm>
            <a:off x="1633680" y="1792440"/>
            <a:ext cx="730224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0574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Responsibilities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Implication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" name="Diagram 3" descr=""/>
          <p:cNvPicPr/>
          <p:nvPr/>
        </p:nvPicPr>
        <p:blipFill>
          <a:blip r:embed="rId1"/>
          <a:stretch/>
        </p:blipFill>
        <p:spPr>
          <a:xfrm>
            <a:off x="669960" y="1809720"/>
            <a:ext cx="772488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0574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t-up and Opera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ckli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0" y="1142640"/>
            <a:ext cx="822960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 following the practical advice offered in this section you should now be able to check off all items on the office establishment and operations checkli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2" descr="C:\Users\Reggie\Desktop\FMG\FVAP\Screen shots\Establishment Checklist.JPG"/>
          <p:cNvPicPr/>
          <p:nvPr/>
        </p:nvPicPr>
        <p:blipFill>
          <a:blip r:embed="rId1"/>
          <a:stretch/>
        </p:blipFill>
        <p:spPr>
          <a:xfrm>
            <a:off x="838080" y="2627280"/>
            <a:ext cx="2743200" cy="354492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78" name="Picture 6" descr="C:\Users\Reggie\Desktop\FMG\FVAP\Screen shots\Operations Checklist.JPG"/>
          <p:cNvPicPr/>
          <p:nvPr/>
        </p:nvPicPr>
        <p:blipFill>
          <a:blip r:embed="rId2"/>
          <a:stretch/>
        </p:blipFill>
        <p:spPr>
          <a:xfrm>
            <a:off x="5029200" y="2590920"/>
            <a:ext cx="2762280" cy="358128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Rectangle 2"/>
          <p:cNvGrpSpPr/>
          <p:nvPr/>
        </p:nvGrpSpPr>
        <p:grpSpPr>
          <a:xfrm>
            <a:off x="1017720" y="2389320"/>
            <a:ext cx="7576920" cy="2322360"/>
            <a:chOff x="1017720" y="2389320"/>
            <a:chExt cx="7576920" cy="2322360"/>
          </a:xfrm>
        </p:grpSpPr>
        <p:pic>
          <p:nvPicPr>
            <p:cNvPr id="380" name="Rectangle 2" descr=""/>
            <p:cNvPicPr/>
            <p:nvPr/>
          </p:nvPicPr>
          <p:blipFill>
            <a:blip r:embed="rId1"/>
            <a:stretch/>
          </p:blipFill>
          <p:spPr>
            <a:xfrm>
              <a:off x="1017720" y="2389320"/>
              <a:ext cx="7576920" cy="23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1066680" y="2438280"/>
              <a:ext cx="716292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ties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gistering Civilian</a:t>
              </a:r>
              <a:r>
                <a:rPr b="0" lang="en-US" sz="3200" spc="-1" strike="noStrike">
                  <a:solidFill>
                    <a:srgbClr val="9bbb59"/>
                  </a:solidFill>
                  <a:latin typeface="Arial"/>
                  <a:ea typeface="Arial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Voter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057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istering Civilian Vo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85800" y="11890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National Voter Registration Act established a standardized form (NVRF) to register voters across the U.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9960" indent="-285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 indent="-285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form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or civilians not covered by UOCAVA.  All military members and their families, as well as any overseas citizens should use the FP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3200400" y="2209680"/>
            <a:ext cx="23623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057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istering Civilian Vo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0948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NVRF allows citizens 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gister to vote in their State of legal resi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ort a change of name to their voter registration off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ort a change of residence to their voter registration off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gister with a political party (in some stat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State has different information requirements for the f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example: Some States require SSN for identification while others ask for driver’s license nu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133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VRF: Step-by-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09480" y="1480680"/>
            <a:ext cx="8229600" cy="24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 One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voter elig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they a US citize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ll they be 18 or older by the elec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negative response to either question means they are not elig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143000" y="3905280"/>
            <a:ext cx="65055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Office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53352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nstallation voter assistance office has responsibility for the following voting related activities at the install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viding voting</a:t>
            </a:r>
            <a:r>
              <a:rPr b="0" lang="en-US" sz="2400" spc="-1" strike="noStrike">
                <a:solidFill>
                  <a:srgbClr val="9bbb59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istance to all military members and their famil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viding voter registration assistance to civilians</a:t>
            </a:r>
            <a:r>
              <a:rPr b="0" lang="en-US" sz="2400" spc="-1" strike="noStrike">
                <a:solidFill>
                  <a:srgbClr val="f7964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o have access to and visit the off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ecting and reporting of voting activity metr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133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VRF: Step-by-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85800" y="1480680"/>
            <a:ext cx="8229600" cy="24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 Two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ll in personal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87631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228600" y="2666880"/>
            <a:ext cx="8763120" cy="333396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VRF: Step-by-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762120" y="1294920"/>
            <a:ext cx="8229600" cy="24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 Two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ll in personal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Oval 12"/>
          <p:cNvSpPr/>
          <p:nvPr/>
        </p:nvSpPr>
        <p:spPr>
          <a:xfrm>
            <a:off x="533520" y="1752480"/>
            <a:ext cx="2590560" cy="1295640"/>
          </a:xfrm>
          <a:prstGeom prst="ellipse">
            <a:avLst/>
          </a:prstGeom>
          <a:solidFill>
            <a:srgbClr val="d31e46"/>
          </a:solidFill>
          <a:ln w="25560">
            <a:solidFill>
              <a:srgbClr val="0d4d8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4"/>
          <p:cNvSpPr/>
          <p:nvPr/>
        </p:nvSpPr>
        <p:spPr>
          <a:xfrm>
            <a:off x="762120" y="20574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y be necessary to vote in prim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Down Arrow 8"/>
          <p:cNvSpPr/>
          <p:nvPr/>
        </p:nvSpPr>
        <p:spPr>
          <a:xfrm>
            <a:off x="1709640" y="3048120"/>
            <a:ext cx="76320" cy="213336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0d4d8c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13"/>
          <p:cNvSpPr/>
          <p:nvPr/>
        </p:nvSpPr>
        <p:spPr>
          <a:xfrm>
            <a:off x="3166920" y="2003400"/>
            <a:ext cx="2590920" cy="1295280"/>
          </a:xfrm>
          <a:prstGeom prst="ellipse">
            <a:avLst/>
          </a:prstGeom>
          <a:solidFill>
            <a:srgbClr val="d31e46"/>
          </a:solidFill>
          <a:ln w="25560">
            <a:solidFill>
              <a:srgbClr val="0d4d8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Down Arrow 10"/>
          <p:cNvSpPr/>
          <p:nvPr/>
        </p:nvSpPr>
        <p:spPr>
          <a:xfrm>
            <a:off x="4419720" y="3352680"/>
            <a:ext cx="75960" cy="1828800"/>
          </a:xfrm>
          <a:prstGeom prst="downArrow">
            <a:avLst>
              <a:gd name="adj1" fmla="val 50000"/>
              <a:gd name="adj2" fmla="val 50158"/>
            </a:avLst>
          </a:prstGeom>
          <a:solidFill>
            <a:srgbClr val="0d4d8c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Down Arrow 11"/>
          <p:cNvSpPr/>
          <p:nvPr/>
        </p:nvSpPr>
        <p:spPr>
          <a:xfrm flipH="1">
            <a:off x="7315200" y="3124080"/>
            <a:ext cx="76320" cy="1371600"/>
          </a:xfrm>
          <a:prstGeom prst="downArrow">
            <a:avLst>
              <a:gd name="adj1" fmla="val 50000"/>
              <a:gd name="adj2" fmla="val 49921"/>
            </a:avLst>
          </a:prstGeom>
          <a:solidFill>
            <a:srgbClr val="0d4d8c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5"/>
          <p:cNvSpPr/>
          <p:nvPr/>
        </p:nvSpPr>
        <p:spPr>
          <a:xfrm>
            <a:off x="3352680" y="23176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required by ever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14"/>
          <p:cNvSpPr/>
          <p:nvPr/>
        </p:nvSpPr>
        <p:spPr>
          <a:xfrm>
            <a:off x="5943600" y="1676520"/>
            <a:ext cx="2743200" cy="1447560"/>
          </a:xfrm>
          <a:prstGeom prst="ellipse">
            <a:avLst/>
          </a:prstGeom>
          <a:solidFill>
            <a:srgbClr val="d31e46"/>
          </a:solidFill>
          <a:ln w="25560">
            <a:solidFill>
              <a:srgbClr val="0d4d8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6"/>
          <p:cNvSpPr/>
          <p:nvPr/>
        </p:nvSpPr>
        <p:spPr>
          <a:xfrm>
            <a:off x="6140520" y="20574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fferent States have different ident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133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VRF: Step-by-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838080" y="140508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 Three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gn and date the f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7631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362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VRF: Step-by-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09480" y="132876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 Four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al with any special circumstanc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2640" indent="-196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ange of name since last regist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2640" indent="-196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2640" indent="-196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2640" indent="-196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2640" indent="-196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2640" indent="-196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2640" indent="-196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ange of add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Picture 4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8839440" cy="15145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"/>
          <p:cNvPicPr/>
          <p:nvPr/>
        </p:nvPicPr>
        <p:blipFill>
          <a:blip r:embed="rId2"/>
          <a:stretch/>
        </p:blipFill>
        <p:spPr>
          <a:xfrm>
            <a:off x="152280" y="5019840"/>
            <a:ext cx="883944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133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VRF: Step-by-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76212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al circumstances continue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add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nt unable to sig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2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8839440" cy="21337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"/>
          <p:cNvPicPr/>
          <p:nvPr/>
        </p:nvPicPr>
        <p:blipFill>
          <a:blip r:embed="rId2"/>
          <a:stretch/>
        </p:blipFill>
        <p:spPr>
          <a:xfrm>
            <a:off x="152280" y="4952880"/>
            <a:ext cx="883944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457200" y="1981080"/>
            <a:ext cx="7848720" cy="3124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VRF: Step-by-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762120" y="140508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 Five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ddress and mail f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1731960" y="2057400"/>
            <a:ext cx="6248520" cy="2819520"/>
          </a:xfrm>
          <a:prstGeom prst="rect">
            <a:avLst/>
          </a:prstGeom>
          <a:ln w="0">
            <a:noFill/>
          </a:ln>
        </p:spPr>
      </p:pic>
      <p:sp>
        <p:nvSpPr>
          <p:cNvPr id="420" name="Down Arrow 7"/>
          <p:cNvSpPr/>
          <p:nvPr/>
        </p:nvSpPr>
        <p:spPr>
          <a:xfrm rot="10800000">
            <a:off x="7576920" y="2666520"/>
            <a:ext cx="75960" cy="1295640"/>
          </a:xfrm>
          <a:prstGeom prst="downArrow">
            <a:avLst>
              <a:gd name="adj1" fmla="val 50000"/>
              <a:gd name="adj2" fmla="val 50144"/>
            </a:avLst>
          </a:prstGeom>
          <a:solidFill>
            <a:srgbClr val="0d4d8c"/>
          </a:solidFill>
          <a:ln w="25560">
            <a:solidFill>
              <a:srgbClr val="0d4d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4"/>
          <p:cNvSpPr/>
          <p:nvPr/>
        </p:nvSpPr>
        <p:spPr>
          <a:xfrm>
            <a:off x="6324480" y="3962520"/>
            <a:ext cx="2590920" cy="1295280"/>
          </a:xfrm>
          <a:prstGeom prst="ellipse">
            <a:avLst/>
          </a:prstGeom>
          <a:solidFill>
            <a:srgbClr val="d31e46"/>
          </a:solidFill>
          <a:ln w="25560">
            <a:solidFill>
              <a:srgbClr val="0d4d8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6"/>
          <p:cNvSpPr/>
          <p:nvPr/>
        </p:nvSpPr>
        <p:spPr>
          <a:xfrm>
            <a:off x="6553080" y="42670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 that the form requires po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9"/>
          <p:cNvSpPr/>
          <p:nvPr/>
        </p:nvSpPr>
        <p:spPr>
          <a:xfrm>
            <a:off x="2438280" y="4952880"/>
            <a:ext cx="2590920" cy="1143000"/>
          </a:xfrm>
          <a:prstGeom prst="ellipse">
            <a:avLst/>
          </a:prstGeom>
          <a:solidFill>
            <a:srgbClr val="d31e46"/>
          </a:solidFill>
          <a:ln w="25560">
            <a:solidFill>
              <a:srgbClr val="0d4d8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10"/>
          <p:cNvSpPr/>
          <p:nvPr/>
        </p:nvSpPr>
        <p:spPr>
          <a:xfrm>
            <a:off x="2666880" y="51055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ress can be found in the NVRF 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Down Arrow 11"/>
          <p:cNvSpPr/>
          <p:nvPr/>
        </p:nvSpPr>
        <p:spPr>
          <a:xfrm rot="10800000">
            <a:off x="3657600" y="4648320"/>
            <a:ext cx="76320" cy="304560"/>
          </a:xfrm>
          <a:prstGeom prst="downArrow">
            <a:avLst>
              <a:gd name="adj1" fmla="val 50000"/>
              <a:gd name="adj2" fmla="val 49882"/>
            </a:avLst>
          </a:prstGeom>
          <a:solidFill>
            <a:srgbClr val="0d4d8c"/>
          </a:solidFill>
          <a:ln w="25560">
            <a:solidFill>
              <a:srgbClr val="0d4d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3"/>
          <p:cNvSpPr/>
          <p:nvPr/>
        </p:nvSpPr>
        <p:spPr>
          <a:xfrm>
            <a:off x="914400" y="2187720"/>
            <a:ext cx="7772400" cy="3200400"/>
          </a:xfrm>
          <a:prstGeom prst="rect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057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VRF: </a:t>
            </a: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nal Consideration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85800" y="1218960"/>
            <a:ext cx="8305920" cy="94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133560" indent="-133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es have specific conditions regarding the NVRF of which you should be aware.  For examp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yoming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oes not allow the use of the NVRF.  Wyoming applicants must use that State’s form available on their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State voting web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o register by ma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rth Dakota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ters are not required to register, so there is no need to fill out an NVR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89440" indent="-111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rginia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s a full Social Security Number, as do some other St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TextBox 4"/>
          <p:cNvSpPr/>
          <p:nvPr/>
        </p:nvSpPr>
        <p:spPr>
          <a:xfrm>
            <a:off x="990720" y="5562720"/>
            <a:ext cx="7315200" cy="459720"/>
          </a:xfrm>
          <a:prstGeom prst="rect">
            <a:avLst/>
          </a:prstGeom>
          <a:solidFill>
            <a:srgbClr val="f2f2f2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LWAYS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CHECK STAT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Rectangle 3"/>
          <p:cNvGrpSpPr/>
          <p:nvPr/>
        </p:nvGrpSpPr>
        <p:grpSpPr>
          <a:xfrm>
            <a:off x="920880" y="2389320"/>
            <a:ext cx="7881840" cy="2322360"/>
            <a:chOff x="920880" y="2389320"/>
            <a:chExt cx="7881840" cy="2322360"/>
          </a:xfrm>
        </p:grpSpPr>
        <p:pic>
          <p:nvPicPr>
            <p:cNvPr id="431" name="Rectangle 3" descr=""/>
            <p:cNvPicPr/>
            <p:nvPr/>
          </p:nvPicPr>
          <p:blipFill>
            <a:blip r:embed="rId1"/>
            <a:stretch/>
          </p:blipFill>
          <p:spPr>
            <a:xfrm>
              <a:off x="920880" y="2389320"/>
              <a:ext cx="7881840" cy="23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1066680" y="2438280"/>
              <a:ext cx="716292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sources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e Online Assistant &amp; The Handbook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 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6858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PCA online assist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tomates and simplifies the process of completing the FP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nstallation Voter Assistance Office Handboo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a useful reference guide to supplement this training.  It provides additional detail and suggestions for implementation as well as useful tools lik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decision tree to help you pick the correct f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fice set-up check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ity Folder check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ick Reference Guides for the FPCA, FWAB, and NVR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FPCA Online Assist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094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PCA online assistant, available a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www.fvap.go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 is a useful tool for assisting UOCAVA vo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Picture 1" descr=""/>
          <p:cNvPicPr/>
          <p:nvPr/>
        </p:nvPicPr>
        <p:blipFill>
          <a:blip r:embed="rId2"/>
          <a:stretch/>
        </p:blipFill>
        <p:spPr>
          <a:xfrm>
            <a:off x="228600" y="2666880"/>
            <a:ext cx="87822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Overview of Office Training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5335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training reviews the requirements and duties of the installation voter assistance office. The topics to be covered ar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uidance: The MOVE Act, NVRA, and DoD Issuan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: Setting up the Off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uties: Registering Civilian Vo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: The Online Assistant &amp; The Handboo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FPCA Online Assist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858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online assistant offers point-and-click assistance in correctly filling out the FPCA and results in a printable form that eliminates any legibility err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39152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FPCA Online Assist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7621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online assistant also provides delivery information regardless of whether the applicant wishes to send the form electronically or through the ma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Picture 2" descr=""/>
          <p:cNvPicPr/>
          <p:nvPr/>
        </p:nvPicPr>
        <p:blipFill>
          <a:blip r:embed="rId1"/>
          <a:stretch/>
        </p:blipFill>
        <p:spPr>
          <a:xfrm>
            <a:off x="380880" y="3352680"/>
            <a:ext cx="4648320" cy="18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4" name="Picture 3" descr=""/>
          <p:cNvPicPr/>
          <p:nvPr/>
        </p:nvPicPr>
        <p:blipFill>
          <a:blip r:embed="rId2"/>
          <a:stretch/>
        </p:blipFill>
        <p:spPr>
          <a:xfrm>
            <a:off x="5486400" y="2743200"/>
            <a:ext cx="3111480" cy="304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4" descr=""/>
          <p:cNvPicPr/>
          <p:nvPr/>
        </p:nvPicPr>
        <p:blipFill>
          <a:blip r:embed="rId1"/>
          <a:stretch/>
        </p:blipFill>
        <p:spPr>
          <a:xfrm>
            <a:off x="5562720" y="2133720"/>
            <a:ext cx="2666880" cy="402912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446" name="Down Arrow 14"/>
          <p:cNvSpPr/>
          <p:nvPr/>
        </p:nvSpPr>
        <p:spPr>
          <a:xfrm flipH="1" rot="15900000">
            <a:off x="5406840" y="3780000"/>
            <a:ext cx="158760" cy="752400"/>
          </a:xfrm>
          <a:prstGeom prst="downArrow">
            <a:avLst>
              <a:gd name="adj1" fmla="val 50000"/>
              <a:gd name="adj2" fmla="val 50113"/>
            </a:avLst>
          </a:prstGeom>
          <a:solidFill>
            <a:srgbClr val="0070c0"/>
          </a:solidFill>
          <a:ln w="25560">
            <a:solidFill>
              <a:srgbClr val="0d4d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8"/>
          <p:cNvSpPr/>
          <p:nvPr/>
        </p:nvSpPr>
        <p:spPr>
          <a:xfrm>
            <a:off x="3505320" y="3664080"/>
            <a:ext cx="1752480" cy="914400"/>
          </a:xfrm>
          <a:prstGeom prst="ellipse">
            <a:avLst/>
          </a:prstGeom>
          <a:solidFill>
            <a:srgbClr val="d31e46"/>
          </a:solidFill>
          <a:ln w="25560">
            <a:solidFill>
              <a:srgbClr val="0d4d8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3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2666880" cy="403848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FPCA Online Assist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6858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llowing the State information are cover sheets for both fax and email transmission of the FP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Oval 11"/>
          <p:cNvSpPr/>
          <p:nvPr/>
        </p:nvSpPr>
        <p:spPr>
          <a:xfrm>
            <a:off x="2895480" y="2590920"/>
            <a:ext cx="1752840" cy="914400"/>
          </a:xfrm>
          <a:prstGeom prst="ellipse">
            <a:avLst/>
          </a:prstGeom>
          <a:solidFill>
            <a:srgbClr val="d31e46"/>
          </a:solidFill>
          <a:ln w="25560">
            <a:solidFill>
              <a:srgbClr val="0d4d8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12"/>
          <p:cNvSpPr/>
          <p:nvPr/>
        </p:nvSpPr>
        <p:spPr>
          <a:xfrm>
            <a:off x="3276720" y="276552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x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13"/>
          <p:cNvSpPr/>
          <p:nvPr/>
        </p:nvSpPr>
        <p:spPr>
          <a:xfrm>
            <a:off x="3657600" y="396864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mail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Down Arrow 15"/>
          <p:cNvSpPr/>
          <p:nvPr/>
        </p:nvSpPr>
        <p:spPr>
          <a:xfrm rot="3535200">
            <a:off x="2375280" y="2920320"/>
            <a:ext cx="210960" cy="173052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0d4d8c"/>
          </a:solidFill>
          <a:ln w="25560">
            <a:solidFill>
              <a:srgbClr val="0d4d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Rectangle 17"/>
          <p:cNvGrpSpPr/>
          <p:nvPr/>
        </p:nvGrpSpPr>
        <p:grpSpPr>
          <a:xfrm>
            <a:off x="3382920" y="4754520"/>
            <a:ext cx="2560680" cy="1706760"/>
            <a:chOff x="3382920" y="4754520"/>
            <a:chExt cx="2560680" cy="1706760"/>
          </a:xfrm>
        </p:grpSpPr>
        <p:pic>
          <p:nvPicPr>
            <p:cNvPr id="456" name="Rectangle 17" descr=""/>
            <p:cNvPicPr/>
            <p:nvPr/>
          </p:nvPicPr>
          <p:blipFill>
            <a:blip r:embed="rId3"/>
            <a:stretch/>
          </p:blipFill>
          <p:spPr>
            <a:xfrm>
              <a:off x="3382920" y="4754520"/>
              <a:ext cx="256068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3429000" y="4800600"/>
              <a:ext cx="213372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If cover sheets are not provided, that  State does not accept electronic sub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Oval 5"/>
          <p:cNvSpPr/>
          <p:nvPr/>
        </p:nvSpPr>
        <p:spPr>
          <a:xfrm>
            <a:off x="2286000" y="3505320"/>
            <a:ext cx="2666880" cy="1676160"/>
          </a:xfrm>
          <a:prstGeom prst="ellipse">
            <a:avLst/>
          </a:prstGeom>
          <a:solidFill>
            <a:srgbClr val="d31e46"/>
          </a:solidFill>
          <a:ln w="25560">
            <a:solidFill>
              <a:srgbClr val="0d4d8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FPCA Online Assist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533520" y="1265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online assistants provi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mpleted FP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Mailing Envelope templa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ortant State inform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2" descr=""/>
          <p:cNvPicPr/>
          <p:nvPr/>
        </p:nvPicPr>
        <p:blipFill>
          <a:blip r:embed="rId1"/>
          <a:stretch/>
        </p:blipFill>
        <p:spPr>
          <a:xfrm>
            <a:off x="5105520" y="1295280"/>
            <a:ext cx="3429000" cy="457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2" name="TextBox 6"/>
          <p:cNvSpPr/>
          <p:nvPr/>
        </p:nvSpPr>
        <p:spPr>
          <a:xfrm>
            <a:off x="2743200" y="3809880"/>
            <a:ext cx="1752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ke sure the applicant signs and dates the 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Down Arrow 7"/>
          <p:cNvSpPr/>
          <p:nvPr/>
        </p:nvSpPr>
        <p:spPr>
          <a:xfrm rot="18000000">
            <a:off x="6026400" y="3818520"/>
            <a:ext cx="100080" cy="2536920"/>
          </a:xfrm>
          <a:prstGeom prst="downArrow">
            <a:avLst>
              <a:gd name="adj1" fmla="val 50000"/>
              <a:gd name="adj2" fmla="val 49994"/>
            </a:avLst>
          </a:prstGeom>
          <a:solidFill>
            <a:srgbClr val="0d4d8c"/>
          </a:solidFill>
          <a:ln w="25560">
            <a:solidFill>
              <a:srgbClr val="0d4d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FPCA Online Assist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7621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final page may include any additional information required by the State. This will only print when requir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" descr=""/>
          <p:cNvPicPr/>
          <p:nvPr/>
        </p:nvPicPr>
        <p:blipFill>
          <a:blip r:embed="rId1"/>
          <a:stretch/>
        </p:blipFill>
        <p:spPr>
          <a:xfrm>
            <a:off x="2819520" y="2333520"/>
            <a:ext cx="3124080" cy="391500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057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ndbook: Decision Tr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6094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ision tree makes determining the correct form to assist an applicant easy with step-by-step evaluation of critical question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2" descr="C:\Users\Reggie\Desktop\FMG\FVAP\Screen shots\Decision tree.JPG"/>
          <p:cNvPicPr/>
          <p:nvPr/>
        </p:nvPicPr>
        <p:blipFill>
          <a:blip r:embed="rId1"/>
          <a:stretch/>
        </p:blipFill>
        <p:spPr>
          <a:xfrm>
            <a:off x="2971800" y="2514600"/>
            <a:ext cx="2735280" cy="342900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1337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ndbook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ick Reference Gui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609480" y="114300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n applicant does not wish to use the online assistant, or a computer is not available, you may find the FPCA Quick Reference Guide usef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Content Placeholder 1"/>
          <p:cNvSpPr/>
          <p:nvPr/>
        </p:nvSpPr>
        <p:spPr>
          <a:xfrm>
            <a:off x="533520" y="2332080"/>
            <a:ext cx="3276360" cy="32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400"/>
              </a:spcBef>
              <a:buClr>
                <a:srgbClr val="00206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Rectangle 6"/>
          <p:cNvGrpSpPr/>
          <p:nvPr/>
        </p:nvGrpSpPr>
        <p:grpSpPr>
          <a:xfrm>
            <a:off x="4906800" y="2998800"/>
            <a:ext cx="3310200" cy="2395440"/>
            <a:chOff x="4906800" y="2998800"/>
            <a:chExt cx="3310200" cy="2395440"/>
          </a:xfrm>
        </p:grpSpPr>
        <p:pic>
          <p:nvPicPr>
            <p:cNvPr id="474" name="Rectangle 6" descr=""/>
            <p:cNvPicPr/>
            <p:nvPr/>
          </p:nvPicPr>
          <p:blipFill>
            <a:blip r:embed="rId1"/>
            <a:stretch/>
          </p:blipFill>
          <p:spPr>
            <a:xfrm>
              <a:off x="4906800" y="2998800"/>
              <a:ext cx="3310200" cy="23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4952880" y="3048120"/>
              <a:ext cx="289584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This Guide provides an overview of the process and a checklist for reviewing FPCA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6" name="Picture 2" descr="C:\Users\Reggie\Desktop\FMG\FVAP\Screen shots\FPCA Quick Guide 1.JPG"/>
          <p:cNvPicPr/>
          <p:nvPr/>
        </p:nvPicPr>
        <p:blipFill>
          <a:blip r:embed="rId2"/>
          <a:stretch/>
        </p:blipFill>
        <p:spPr>
          <a:xfrm>
            <a:off x="928800" y="2438280"/>
            <a:ext cx="2881080" cy="373392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9051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ndbook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ick Reference Gui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609480" y="1252080"/>
            <a:ext cx="8229600" cy="15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e event that a FWAB is necessary there is a Quick Reference Guide available to assist there as w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Content Placeholder 1"/>
          <p:cNvSpPr/>
          <p:nvPr/>
        </p:nvSpPr>
        <p:spPr>
          <a:xfrm>
            <a:off x="533520" y="2332080"/>
            <a:ext cx="3276360" cy="32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400"/>
              </a:spcBef>
              <a:buClr>
                <a:srgbClr val="00206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2" descr="C:\Users\Reggie\Desktop\FMG\FVAP\Screen shots\FWAB Quick Guide 1.JPG"/>
          <p:cNvPicPr/>
          <p:nvPr/>
        </p:nvPicPr>
        <p:blipFill>
          <a:blip r:embed="rId1"/>
          <a:stretch/>
        </p:blipFill>
        <p:spPr>
          <a:xfrm>
            <a:off x="838080" y="2182680"/>
            <a:ext cx="3125880" cy="406584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81" name="Picture 3" descr="C:\Users\Reggie\Desktop\FMG\FVAP\Screen shots\FWAB Quick Guide.JPG"/>
          <p:cNvPicPr/>
          <p:nvPr/>
        </p:nvPicPr>
        <p:blipFill>
          <a:blip r:embed="rId2"/>
          <a:stretch/>
        </p:blipFill>
        <p:spPr>
          <a:xfrm>
            <a:off x="4876920" y="2209680"/>
            <a:ext cx="3119400" cy="403884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1337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ndbook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ick Reference Gui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6858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is also a Quick Reference Guide for the NVR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4" name="Rectangle 5"/>
          <p:cNvGrpSpPr/>
          <p:nvPr/>
        </p:nvGrpSpPr>
        <p:grpSpPr>
          <a:xfrm>
            <a:off x="1096920" y="2693880"/>
            <a:ext cx="3335400" cy="2395800"/>
            <a:chOff x="1096920" y="2693880"/>
            <a:chExt cx="3335400" cy="2395800"/>
          </a:xfrm>
        </p:grpSpPr>
        <p:pic>
          <p:nvPicPr>
            <p:cNvPr id="485" name="Rectangle 5" descr=""/>
            <p:cNvPicPr/>
            <p:nvPr/>
          </p:nvPicPr>
          <p:blipFill>
            <a:blip r:embed="rId1"/>
            <a:stretch/>
          </p:blipFill>
          <p:spPr>
            <a:xfrm>
              <a:off x="1096920" y="2693880"/>
              <a:ext cx="3335400" cy="239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1143000" y="2743200"/>
              <a:ext cx="28954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All of these Quick Reference Guides can be found in the Installation Voter Assistance Office Handboo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7" name="Picture 2" descr="C:\Users\Reggie\Desktop\FMG\FVAP\Screen shots\NVRF Quick Guide.JPG"/>
          <p:cNvPicPr/>
          <p:nvPr/>
        </p:nvPicPr>
        <p:blipFill>
          <a:blip r:embed="rId2"/>
          <a:stretch/>
        </p:blipFill>
        <p:spPr>
          <a:xfrm>
            <a:off x="4876920" y="1836720"/>
            <a:ext cx="3344760" cy="433548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ndbook: Checkli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60948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so available in the Handbook are checklists to ensure the completeness of the office set-up, operations and continuity fol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0" name="Picture 2" descr="C:\Users\Reggie\Desktop\FMG\FVAP\Screen shots\Establishment Checklist.JPG"/>
          <p:cNvPicPr/>
          <p:nvPr/>
        </p:nvPicPr>
        <p:blipFill>
          <a:blip r:embed="rId1"/>
          <a:stretch/>
        </p:blipFill>
        <p:spPr>
          <a:xfrm>
            <a:off x="380880" y="2514600"/>
            <a:ext cx="2535480" cy="327672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91" name="Picture 3" descr="C:\Users\Reggie\Desktop\FMG\FVAP\Screen shots\Operations Checklist.JPG"/>
          <p:cNvPicPr/>
          <p:nvPr/>
        </p:nvPicPr>
        <p:blipFill>
          <a:blip r:embed="rId2"/>
          <a:stretch/>
        </p:blipFill>
        <p:spPr>
          <a:xfrm>
            <a:off x="5791320" y="2432160"/>
            <a:ext cx="2590560" cy="335916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92" name="Picture 4" descr="C:\Users\Reggie\Desktop\FMG\FVAP\Screen shots\Continuity Folder Checklist small.JPG"/>
          <p:cNvPicPr/>
          <p:nvPr/>
        </p:nvPicPr>
        <p:blipFill>
          <a:blip r:embed="rId3"/>
          <a:stretch/>
        </p:blipFill>
        <p:spPr>
          <a:xfrm>
            <a:off x="2743200" y="2666880"/>
            <a:ext cx="3200400" cy="350532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057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Diagram 4" descr=""/>
          <p:cNvPicPr/>
          <p:nvPr/>
        </p:nvPicPr>
        <p:blipFill>
          <a:blip r:embed="rId1"/>
          <a:stretch/>
        </p:blipFill>
        <p:spPr>
          <a:xfrm>
            <a:off x="1414440" y="1463760"/>
            <a:ext cx="625464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5146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ining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60948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gislation and changes to DoD guidance have resulted in new voter assistance responsibilities for military install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installation voter assistance office must be created on military install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office has voting assistance responsibilities to civilians who have access to the office as well as military personnel and their famil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tools to assist with this transition are available through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www.fvap.go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Rectangle 2"/>
          <p:cNvGrpSpPr/>
          <p:nvPr/>
        </p:nvGrpSpPr>
        <p:grpSpPr>
          <a:xfrm>
            <a:off x="1017720" y="2389320"/>
            <a:ext cx="7576920" cy="2322360"/>
            <a:chOff x="1017720" y="2389320"/>
            <a:chExt cx="7576920" cy="2322360"/>
          </a:xfrm>
        </p:grpSpPr>
        <p:pic>
          <p:nvPicPr>
            <p:cNvPr id="333" name="Rectangle 2" descr=""/>
            <p:cNvPicPr/>
            <p:nvPr/>
          </p:nvPicPr>
          <p:blipFill>
            <a:blip r:embed="rId1"/>
            <a:stretch/>
          </p:blipFill>
          <p:spPr>
            <a:xfrm>
              <a:off x="1017720" y="2389320"/>
              <a:ext cx="7576920" cy="23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1066680" y="2438280"/>
              <a:ext cx="716292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egislation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e MOVE Act, NVRA, and DoD Issuanc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OVE 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0948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ilitary and Overseas Voter Empowerment (MOVE) Act of 2009 aims to increase the opportunity for military personnel, their families, and overseas civilians to vote</a:t>
            </a:r>
            <a:r>
              <a:rPr b="0" lang="en-US" sz="2400" spc="-1" strike="noStrike">
                <a:solidFill>
                  <a:srgbClr val="9bbb5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bbb59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OVE Ac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s States to expedite the voting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roves voter regis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OVE 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expedite the voting process, States mus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liver absentee ballots electronically beginning with the November 2010 e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es may choose the type of electronic transmission adopted (email and/or fa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eck the applicant’s State-specific information to see which types are accep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sure that ballots are sent to voters at least 45 days prior to the e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Always check the applicant’s State’s website because State procedures and requirements will va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OVE Act and NV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533520" y="1494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roving voter registration mea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eating installation voter assistance offices on military install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ating the offices as Voter Registration Agencies as defined by the National Voter Registration Act (NVRA) to assist civilian vo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cilitating the submission of voter registration information each time a voter has a change of address (e.g., changes duty st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8:08:01Z</dcterms:created>
  <dc:creator>griffithsb</dc:creator>
  <dc:description/>
  <dc:language>en-US</dc:language>
  <cp:lastModifiedBy>McDonnellK</cp:lastModifiedBy>
  <dcterms:modified xsi:type="dcterms:W3CDTF">2013-06-28T15:05:22Z</dcterms:modified>
  <cp:revision>604</cp:revision>
  <dc:subject/>
  <dc:title>Slide 1</dc:title>
</cp:coreProperties>
</file>